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877-F4B3-40B8-87CD-E68656D0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951-70C2-438C-B6F6-A2B44ACE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A813-6A01-42CF-AEB1-F57DE818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39A-EAB8-46F2-A5B0-444582B0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903-5586-4B46-A2DA-02AC21AA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45F-7485-443E-B0BB-E8F9359E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ACC-57B4-4CB8-842D-C93D5FAA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A8B-2B64-461B-9E9B-1F09EE19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FF4-8BD2-482D-811B-E4AAAD2E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9C8-29B3-4A1A-9F68-EA1C6BAD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162-026E-428B-9328-8D31074A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295-AE2F-4DC3-A8F0-8EBC430B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9864-FBE2-40BA-88FF-A49B07716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zooka"/>
              </a:rPr>
              <a:t>Gla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; to stare angr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; m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; hap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; glare-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;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685800"/>
            <a:ext cx="249552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oytell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a person who tells 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s: a 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yms: not a person who tells 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lable: story.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word: 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ection: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2590920" cy="294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sigh out and t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place to r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check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check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12408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ro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lo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lo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st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bor; r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45160" y="609480"/>
            <a:ext cx="2889360" cy="518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zooka"/>
              </a:rPr>
              <a:t>Eager</a:t>
            </a:r>
            <a:r>
              <a:rPr b="0" lang="en-US" sz="4400" spc="-1" strike="noStrike">
                <a:solidFill>
                  <a:srgbClr val="000000"/>
                </a:solidFill>
                <a:latin typeface="Bazook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Definition: full excitemen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Synonym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ex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Antonyms: s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Base word: 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Inflection: 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022560" cy="281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04920" y="0"/>
            <a:ext cx="160020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t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3</cp:lastModifiedBy>
  <dcterms:modified xsi:type="dcterms:W3CDTF">2008-10-22T17:29:24Z</dcterms:modified>
  <cp:revision>5</cp:revision>
  <dc:subject/>
  <dc:title>PowerPoint Presentation</dc:title>
</cp:coreProperties>
</file>